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38A3-5124-436B-A0F3-A3E64180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7E92-AF77-45FD-89F5-7B092F3D6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rakai forest (Lithuania?) from: http://andreasmoser.wordpress.com/2012/07/07/trak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CBE1-326F-4DFC-AB81-C8B5FE7F9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Kraus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ubmoss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9EA0-A0C7-42E7-B206-24CFC937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Massachussets fern from: http://21stcenturynaturalist.blogspot.ca/2010/07/lycophytes-are-living-fossi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dox/altg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69B6-512A-43C4-A726-8189CA6E9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AC61-6451-44AE-AEA2-452584E7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b.nicerweb.net/Locked/media/ch3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E49A-0014-4CB7-9A92-7C0E80DF2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.clc.uc.edu/courses/bio106/gymnosp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BA9F-5560-456F-A160-6CE303D5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labs.utah.edu/sperry/proje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3FB8-C66C-48EE-A0D0-71E0595E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ites.google.com/site/botany317/session-2/eukaryotes/plants/session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1E8F-2F65-4DCF-9A9C-8BEE503E4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ussex3d.com/avon-wheatbelt/flower-and-honeyeat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AB21-E038-4D32-A208-E8A323210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learner.org/courses/essential/life/session4/closer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21A3-21E8-4AD0-81BD-B926A77F6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raphicpanic.com/beautiful-leaves-backgroun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7434-2EE1-40DB-B153-2BF34E3EE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spaliers.com.au/maintaining-your-plan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nx.org/contents/HEWmanoj@6/Evolution-of-Seed-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11DC-C182-423A-AC47-794C143FD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justanswer.com/tax/0e5hx-cross-section-monocot-leaf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A22D-67DA-46BA-92C0-E7EC48FC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ohioplants.org/bryophytes-introdu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378A-9C75-414A-8AAF-73DE5D56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EF5F-2EE4-4066-B1EA-EB89AA8C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fkeep.org/html/stitch.php?s=54373324154293&amp;id=7774881383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mmons.wikimedia.org/wiki/File:Moss_alternation_of_generations_03-2012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4982-9658-4B94-BD26-03E8A0034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EF9-E036-4FE0-8642-6D2F626D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2A8-F630-4997-B0BA-C08137C9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68B-CA25-412F-B33F-9B58F91B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33C-0BB1-4E1C-8635-6687CE62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EA7-ADB6-4361-AB51-BB866FA3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84A-22B5-41F7-9F6C-2A6C688D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4E1-5A2A-400C-9769-FED31F2E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1A5-32E1-45B3-9274-0766BB6B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DFF-526C-4BDF-A3CF-35DD80EB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BFF-7A28-463D-9B88-42BC5AA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8FA-DA52-4BE5-8253-AB6FFC0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37B-F4C5-4C37-8422-1802A20A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D3C3-CFF2-46CA-AA4A-9381AF218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dom Plan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ycophytes (club m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SCF6428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erophytes (ferns &amp; relativ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SCN3187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fern_altgen.jpg"/>
          <p:cNvPicPr/>
          <p:nvPr/>
        </p:nvPicPr>
        <p:blipFill>
          <a:blip r:embed="rId1"/>
          <a:srcRect l="-13344" t="0" r="-1334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30_04aGymnospermConiferophyta"/>
          <p:cNvPicPr/>
          <p:nvPr/>
        </p:nvPicPr>
        <p:blipFill>
          <a:blip r:embed="rId1"/>
          <a:stretch/>
        </p:blipFill>
        <p:spPr>
          <a:xfrm>
            <a:off x="1593720" y="1600200"/>
            <a:ext cx="5956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SC 9805&amp;06 male &amp; female pine cones 3"/>
          <p:cNvPicPr/>
          <p:nvPr/>
        </p:nvPicPr>
        <p:blipFill>
          <a:blip r:embed="rId1"/>
          <a:stretch/>
        </p:blipFill>
        <p:spPr>
          <a:xfrm>
            <a:off x="938160" y="1676520"/>
            <a:ext cx="72676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Basal angiosperms"/>
          <p:cNvPicPr/>
          <p:nvPr/>
        </p:nvPicPr>
        <p:blipFill>
          <a:blip r:embed="rId1"/>
          <a:stretch/>
        </p:blipFill>
        <p:spPr>
          <a:xfrm>
            <a:off x="1495440" y="1600200"/>
            <a:ext cx="6227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Angiosperms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images"/>
          <p:cNvPicPr/>
          <p:nvPr/>
        </p:nvPicPr>
        <p:blipFill>
          <a:blip r:embed="rId1"/>
          <a:stretch/>
        </p:blipFill>
        <p:spPr>
          <a:xfrm>
            <a:off x="906480" y="609480"/>
            <a:ext cx="73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how4"/>
          <p:cNvPicPr/>
          <p:nvPr/>
        </p:nvPicPr>
        <p:blipFill>
          <a:blip r:embed="rId1"/>
          <a:stretch/>
        </p:blipFill>
        <p:spPr>
          <a:xfrm>
            <a:off x="1577880" y="1981080"/>
            <a:ext cx="598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all are photo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s composed of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strial plants are ses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s for othe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uses (medicines, clothing, wood, paper products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from anci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oph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reen alg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characteristics with present-day charophytes: chlorophy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ther pigments, formation of cell plate, cellulose in cell wall, use of starch as storage molecul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5" descr="Figure_26_01_06.jpg"/>
          <p:cNvPicPr/>
          <p:nvPr/>
        </p:nvPicPr>
        <p:blipFill>
          <a:blip r:embed="rId1"/>
          <a:srcRect l="-5715" t="0" r="-5715" b="0"/>
          <a:stretch/>
        </p:blipFill>
        <p:spPr>
          <a:xfrm>
            <a:off x="539640" y="549360"/>
            <a:ext cx="806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to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strategies to prevent water loss while allowing gas exchang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2" descr="2006-10-05_174206_monocot_leaf.jpg"/>
          <p:cNvPicPr/>
          <p:nvPr/>
        </p:nvPicPr>
        <p:blipFill>
          <a:blip r:embed="rId1"/>
          <a:srcRect l="0" t="-25554" r="0" b="-25554"/>
          <a:stretch/>
        </p:blipFill>
        <p:spPr>
          <a:xfrm>
            <a:off x="4427640" y="1700280"/>
            <a:ext cx="432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Major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4" descr="plantkingdom.gif"/>
          <p:cNvPicPr/>
          <p:nvPr/>
        </p:nvPicPr>
        <p:blipFill>
          <a:blip r:embed="rId1"/>
          <a:srcRect l="-30125" t="0" r="-30125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phpThumb"/>
          <p:cNvPicPr/>
          <p:nvPr/>
        </p:nvPicPr>
        <p:blipFill>
          <a:blip r:embed="rId1"/>
          <a:stretch/>
        </p:blipFill>
        <p:spPr>
          <a:xfrm>
            <a:off x="685800" y="819000"/>
            <a:ext cx="7772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4" descr="Moss_alternation_of_generations_03-2012.png"/>
          <p:cNvPicPr/>
          <p:nvPr/>
        </p:nvPicPr>
        <p:blipFill>
          <a:blip r:embed="rId1"/>
          <a:srcRect l="-6662" t="0" r="-6662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3:08:23Z</dcterms:created>
  <dc:creator>rubina khan</dc:creator>
  <dc:description/>
  <dc:language>en-US</dc:language>
  <cp:lastModifiedBy>rubina khan</cp:lastModifiedBy>
  <dcterms:modified xsi:type="dcterms:W3CDTF">2017-04-03T10:41:07Z</dcterms:modified>
  <cp:revision>43</cp:revision>
  <dc:subject/>
  <dc:title>PowerPoint Presentation</dc:title>
</cp:coreProperties>
</file>